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CE4-56F5-4342-921D-C58303F6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C33-09AC-45C3-85DD-CB69580F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0C5-68A6-433F-85D5-DE741F65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2C4-7B05-4B2C-AE6D-81BD5303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4CE9-06D6-4B93-8FD9-EED59222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D4AA-CDF5-4AFA-86A4-2D3D017D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6693-2192-4D65-86D2-F6BE90A7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16FA-753E-47BF-9790-C8C6CFD5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35D3-1CF6-4BC5-A69D-6D751FFC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8998-A216-477D-9B36-7ECF5291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3A55-DF26-4768-818A-BA72BAD5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892-4185-4922-8C9C-6B0DF00E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D7AB-83E3-453A-B9BD-73586DC4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F76C-F4BF-4DE5-8029-76FF4008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7D78-587B-4E01-B0E3-B8976F25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D49E-4C3F-41C0-9040-CBC4CF0F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ADBA-9593-4300-8DF2-4A4E1116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C25-CA3D-411B-A304-121AAF07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179-AE3B-4449-8D30-053B8977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EAC-F253-4FF7-AFD6-DD4E3BC7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8EC-5A05-4589-BCB6-CE7134F2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CBA-FA31-46C7-91AF-B69FEEB4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39D-71BF-4269-A02C-8F7882EF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786-CDDF-49B0-B6F8-7F92A300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6323-9999-4051-A18C-7C8B727E94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BA17-B384-4417-966F-C76F60301A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imes New Roman"/>
              </a:rPr>
              <a:t>Chapter 9: 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imes New Roman"/>
              </a:rPr>
              <a:t>World War One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524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ternational politics in Europe and why the US became invol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D. Germany’s Problem once fighting begins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front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T_M14_WW1300g15"/>
          <p:cNvPicPr/>
          <p:nvPr/>
        </p:nvPicPr>
        <p:blipFill>
          <a:blip r:embed="rId2"/>
          <a:stretch/>
        </p:blipFill>
        <p:spPr>
          <a:xfrm>
            <a:off x="3048120" y="1447920"/>
            <a:ext cx="32734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.  America tries to stay out of it! (Neutral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 Opposition/again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citizens still had family in Eur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 Sympathy for Al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tain was our friend and “motherland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ench helped during Revolutionary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ong business ties in Eur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.  US begins to mobilize: prepare for wa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. Wilson’s cabinet supports G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nsure an Allied Vic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nted loans repaid after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G.  Propagand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a specific type of message, aimed at serving an agend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5520" y="25146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ed to support the All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7" descr="Serve the Guns, British World War I Poster"/>
          <p:cNvPicPr/>
          <p:nvPr/>
        </p:nvPicPr>
        <p:blipFill>
          <a:blip r:embed="rId2"/>
          <a:stretch/>
        </p:blipFill>
        <p:spPr>
          <a:xfrm>
            <a:off x="439560" y="2971800"/>
            <a:ext cx="4322880" cy="299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flag_1"/>
          <p:cNvPicPr/>
          <p:nvPr/>
        </p:nvPicPr>
        <p:blipFill>
          <a:blip r:embed="rId3"/>
          <a:stretch/>
        </p:blipFill>
        <p:spPr>
          <a:xfrm>
            <a:off x="5486400" y="911160"/>
            <a:ext cx="2925720" cy="44244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1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File:'Destroy this mad brute' WWI propaganda poster (US version).jpg"/>
          <p:cNvPicPr/>
          <p:nvPr/>
        </p:nvPicPr>
        <p:blipFill>
          <a:blip r:embed="rId2"/>
          <a:stretch/>
        </p:blipFill>
        <p:spPr>
          <a:xfrm>
            <a:off x="0" y="0"/>
            <a:ext cx="4400640" cy="670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WWI"/>
          <p:cNvPicPr/>
          <p:nvPr/>
        </p:nvPicPr>
        <p:blipFill>
          <a:blip r:embed="rId3"/>
          <a:stretch/>
        </p:blipFill>
        <p:spPr>
          <a:xfrm>
            <a:off x="4267080" y="0"/>
            <a:ext cx="4708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.  British Blocka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tish block ships from going into or out of Germa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ing for contraband, illegal g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apons as well as food and fertiliz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50,000 Germans starved to dea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T_M14_WW1300g15"/>
          <p:cNvPicPr/>
          <p:nvPr/>
        </p:nvPicPr>
        <p:blipFill>
          <a:blip r:embed="rId2"/>
          <a:srcRect l="0" t="0" r="0" b="28981"/>
          <a:stretch/>
        </p:blipFill>
        <p:spPr>
          <a:xfrm>
            <a:off x="4648320" y="1981080"/>
            <a:ext cx="4056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.  German </a:t>
            </a:r>
            <a:r>
              <a:rPr b="0" i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U-Boa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er block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05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thing going into GB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were very public; newspaper exploited events = Americans angry with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usitania and Sussex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i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6" descr="wwi_pic1"/>
          <p:cNvPicPr/>
          <p:nvPr/>
        </p:nvPicPr>
        <p:blipFill>
          <a:blip r:embed="rId2"/>
          <a:stretch/>
        </p:blipFill>
        <p:spPr>
          <a:xfrm>
            <a:off x="4572000" y="2743200"/>
            <a:ext cx="4572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.  Election of 1916: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esident Wilson is reelect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Woodrow Wilson"/>
          <p:cNvPicPr/>
          <p:nvPr/>
        </p:nvPicPr>
        <p:blipFill>
          <a:blip r:embed="rId2"/>
          <a:stretch/>
        </p:blipFill>
        <p:spPr>
          <a:xfrm>
            <a:off x="2819520" y="1981080"/>
            <a:ext cx="37018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4" name="Picture 4" descr="Zimmerman%20Note"/>
          <p:cNvPicPr/>
          <p:nvPr/>
        </p:nvPicPr>
        <p:blipFill>
          <a:blip r:embed="rId2"/>
          <a:stretch/>
        </p:blipFill>
        <p:spPr>
          <a:xfrm>
            <a:off x="1828800" y="304920"/>
            <a:ext cx="58118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K.  United States is no longer Neutral!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“War to protect democracy”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Three reasons for US invol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mmerman n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-boats continue to sink US 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 going into civil war; wanted a change in government; commu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9.1:  The United States Enters WW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A.  World War I Begins</a:t>
            </a:r>
            <a:br>
              <a:rPr sz="4400"/>
            </a:br>
            <a:r>
              <a:rPr b="0" i="1" lang="en-US" sz="3200" spc="-1" strike="noStrike">
                <a:solidFill>
                  <a:srgbClr val="e5ffff"/>
                </a:solidFill>
                <a:latin typeface="Times New Roman"/>
              </a:rPr>
              <a:t>Four causes of the war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 Militar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ing large strong militaries and using them, if necessary, to help solve dispu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connection does militarism have to imperialis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http://peacetimes.net/wp-content/uploads/2010/05/navy.jpg"/>
          <p:cNvPicPr/>
          <p:nvPr/>
        </p:nvPicPr>
        <p:blipFill>
          <a:blip r:embed="rId2"/>
          <a:stretch/>
        </p:blipFill>
        <p:spPr>
          <a:xfrm>
            <a:off x="4800600" y="4191120"/>
            <a:ext cx="3695760" cy="2463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ttp://terryfostersblog.com/wp-content/uploads/2011/07/army.jpg"/>
          <p:cNvPicPr/>
          <p:nvPr/>
        </p:nvPicPr>
        <p:blipFill>
          <a:blip r:embed="rId3"/>
          <a:stretch/>
        </p:blipFill>
        <p:spPr>
          <a:xfrm>
            <a:off x="5202360" y="1981080"/>
            <a:ext cx="2892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2.  Alliance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close association of nations, formed to advance common intere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http://www.alsindyan.org/sites/default/files/BM-Alliances.jpg?1288371014"/>
          <p:cNvPicPr/>
          <p:nvPr/>
        </p:nvPicPr>
        <p:blipFill>
          <a:blip r:embed="rId2"/>
          <a:stretch/>
        </p:blipFill>
        <p:spPr>
          <a:xfrm>
            <a:off x="4800600" y="1981080"/>
            <a:ext cx="38098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3.  Imperialis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nger nations taking over weaker ones; militarily, economically, polit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industrialism increases imperialism incre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http://ts4.mm.bing.net/images/thumbnail.aspx?q=1310645491551&amp;id=80ffcbaf600b9d4c5f10fb1dd1e8ef21&amp;url=http%3a%2f%2fwww.europeword.com%2fblog%2fwp-content%2fuploads%2fEuropean-Imperialism.jpg"/>
          <p:cNvPicPr/>
          <p:nvPr/>
        </p:nvPicPr>
        <p:blipFill>
          <a:blip r:embed="rId2"/>
          <a:stretch/>
        </p:blipFill>
        <p:spPr>
          <a:xfrm>
            <a:off x="4641840" y="2057400"/>
            <a:ext cx="4121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4.  Nationalism</a:t>
            </a:r>
            <a:br>
              <a:rPr sz="36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elief that a nations issues should come before any international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we get involved in international issues, it is because there is some benefit to 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8" descr="http://2.bp.blogspot.com/_79MAUGXZAJ8/SwVv7sBoqyI/AAAAAAAAAAs/ZvA8gNoFc1A/s1600/nationalism.png"/>
          <p:cNvPicPr/>
          <p:nvPr/>
        </p:nvPicPr>
        <p:blipFill>
          <a:blip r:embed="rId2"/>
          <a:stretch/>
        </p:blipFill>
        <p:spPr>
          <a:xfrm>
            <a:off x="5742000" y="909720"/>
            <a:ext cx="1901880" cy="1904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ts3.mm.bing.net/images/thumbnail.aspx?q=1344114010746&amp;id=dc6d42d801a7c80b70aa72dbe48660aa&amp;url=http%3a%2f%2fwww.adriantansart.com%2fworks%2fadriantansart%2fresized%2fnationalism.w600h600.jpg%3f2010-04-29%252020%3a20%3a39"/>
          <p:cNvPicPr/>
          <p:nvPr/>
        </p:nvPicPr>
        <p:blipFill>
          <a:blip r:embed="rId3"/>
          <a:stretch/>
        </p:blipFill>
        <p:spPr>
          <a:xfrm>
            <a:off x="5021280" y="3352680"/>
            <a:ext cx="1671480" cy="167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http://ts4.mm.bing.net/images/thumbnail.aspx?q=1309796930587&amp;id=62e1bfdd5ad881ebfb5f382deb663016&amp;url=http%3a%2f%2fimage.absoluteastronomy.com%2fimages%2ftopicimages%2fc%2fca%2fcanadian_nationalism.gif"/>
          <p:cNvPicPr/>
          <p:nvPr/>
        </p:nvPicPr>
        <p:blipFill>
          <a:blip r:embed="rId4"/>
          <a:stretch/>
        </p:blipFill>
        <p:spPr>
          <a:xfrm>
            <a:off x="7162920" y="243684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http://ts4.mm.bing.net/images/thumbnail.aspx?q=1357449336259&amp;id=96ffea330b97ec44d088ed2c53451ad4&amp;url=http%3a%2f%2fmqup.mcgill.ca%2fimages%2fbooks%2fshatzmiller_nationalism_lg.jpg"/>
          <p:cNvPicPr/>
          <p:nvPr/>
        </p:nvPicPr>
        <p:blipFill>
          <a:blip r:embed="rId5"/>
          <a:stretch/>
        </p:blipFill>
        <p:spPr>
          <a:xfrm>
            <a:off x="6919920" y="4038480"/>
            <a:ext cx="1015920" cy="1501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http://ts2.mm.bing.net/images/thumbnail.aspx?q=1270349038505&amp;id=649fec26b576298d7036e7ed32694ac2&amp;url=http%3a%2f%2fwww.niceamazingpictures.com%2fdata%2fmedia%2f27%2fNational_Flags_22.jpg"/>
          <p:cNvPicPr/>
          <p:nvPr/>
        </p:nvPicPr>
        <p:blipFill>
          <a:blip r:embed="rId6"/>
          <a:stretch/>
        </p:blipFill>
        <p:spPr>
          <a:xfrm>
            <a:off x="7547040" y="529596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http://ts1.mm.bing.net/images/thumbnail.aspx?q=1333925643020&amp;id=36323e30073c29fc958143cf17827ce3&amp;url=http%3a%2f%2fwww.saembassy.org%2fusaembassy%2fSouthafrica%2fflag.jpg"/>
          <p:cNvPicPr/>
          <p:nvPr/>
        </p:nvPicPr>
        <p:blipFill>
          <a:blip r:embed="rId7"/>
          <a:stretch/>
        </p:blipFill>
        <p:spPr>
          <a:xfrm>
            <a:off x="6095880" y="577224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http://ts1.mm.bing.net/images/thumbnail.aspx?q=1310829380396&amp;id=43c46abc6d0cd2dc4a7b49ceab0a4673&amp;url=http%3a%2f%2fupload.wikimedia.org%2fwikipedia%2fen%2f4%2f4f%2fNational_Flag_of_Iraq.png"/>
          <p:cNvPicPr/>
          <p:nvPr/>
        </p:nvPicPr>
        <p:blipFill>
          <a:blip r:embed="rId8"/>
          <a:stretch/>
        </p:blipFill>
        <p:spPr>
          <a:xfrm>
            <a:off x="4772160" y="5175360"/>
            <a:ext cx="1428480" cy="947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2" descr="http://ts4.mm.bing.net/images/thumbnail.aspx?q=1281069228147&amp;id=d979d9e6dda638271ed9b7005a880634&amp;url=http%3a%2f%2fwww.talismancoins.com%2fcatalog%2fNational_Flag_of_Germany.jpg"/>
          <p:cNvPicPr/>
          <p:nvPr/>
        </p:nvPicPr>
        <p:blipFill>
          <a:blip r:embed="rId9"/>
          <a:stretch/>
        </p:blipFill>
        <p:spPr>
          <a:xfrm>
            <a:off x="4838760" y="2436840"/>
            <a:ext cx="125712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B.  “The Spark” that started the war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ir to Austrian thr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lled while visiting Bosnia by “Black Hand” 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assin was Serb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-H declares war on Serb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chduke Ferdin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Franz Ferdinand, Archduke of Austria"/>
          <p:cNvPicPr/>
          <p:nvPr/>
        </p:nvPicPr>
        <p:blipFill>
          <a:blip r:embed="rId2"/>
          <a:stretch/>
        </p:blipFill>
        <p:spPr>
          <a:xfrm>
            <a:off x="5257800" y="2057400"/>
            <a:ext cx="27939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t’s on like Donkey Kong!</a:t>
            </a:r>
            <a:br>
              <a:rPr sz="44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(alliances at work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04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H declares war on Serbi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ssia defending Serbi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rmany declares war on Rus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rmany declares war on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 Britain declares war on Germany and A-H when they enter neutral Belg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8" descr="http://mapsof.net/uploads/static-maps/wwi_alliances_europe_1914_map.jpg"/>
          <p:cNvPicPr/>
          <p:nvPr/>
        </p:nvPicPr>
        <p:blipFill>
          <a:blip r:embed="rId2"/>
          <a:stretch/>
        </p:blipFill>
        <p:spPr>
          <a:xfrm>
            <a:off x="4424400" y="1905120"/>
            <a:ext cx="47307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C.  Alliance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1200" y="163836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Triple Entente – “Allies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 Britai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nc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ss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“Central Powers” Germany, A-H, Ottoman, Bulga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still not involv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T_M14_WW1300g15"/>
          <p:cNvPicPr/>
          <p:nvPr/>
        </p:nvPicPr>
        <p:blipFill>
          <a:blip r:embed="rId2"/>
          <a:stretch/>
        </p:blipFill>
        <p:spPr>
          <a:xfrm>
            <a:off x="4876920" y="1295280"/>
            <a:ext cx="380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11-15T20:31:2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